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023E8-AFC7-4CC8-B6E7-724F3E569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EB6A2-B8AB-4D62-AFC6-2F42D998C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E07138-6971-4287-B602-F83BAA2B37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6421B4-9796-4273-B901-31E2C1B15F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3C0178-3F5D-41F1-980C-301D64FF6C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38B5B9-EF04-4342-8542-D10E54EA88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70816F-2B7C-44DD-AE29-A06B156403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0"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548207-175D-41A8-9349-0F9E0824DF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3"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C51345-AB4C-4292-A0B8-2ED0DE90CB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8"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172920-F40A-41EA-8738-51BECC1A71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2"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3"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C9363A-15E7-4DA5-B3D1-15724529CC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F2525D8-071B-4172-BF9E-A5ADD36603B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42E06-A984-474F-9CE0-1F756F90E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93C205-8D5D-4E59-928D-450B435CDB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7"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6FE113-934B-4311-98A6-D91610FB52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0"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063719-D85D-4AD7-A56F-E7EDE58D245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C06FB3-D621-450A-A9E0-A95CD948FD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DBA031-181A-474A-95E8-94FC8DD944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5"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0082C2-F920-4077-8731-53B41CAEAF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3C1F4A-B6CC-4FB2-8917-1428426629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6816C8-1DE0-4443-8333-48D340D095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6"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A5EDFB-D466-41DD-916F-B7BB9C52F3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0"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2"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6BBCD85-06BC-46DE-A56A-0ED6736A152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1F03E-E34A-4A30-9B7B-971043A5D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4"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5"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CA1FC94-AE15-4B2B-BC8F-661832F3778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44D69DA-7CB1-4103-86B4-9F4080BDFFB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7160F5-754F-44D1-BB9F-74AF15C1B4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1F438F9-F545-42A0-BA41-381ECB2147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3E8935-82C7-464A-AC96-20A03BCDAD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76DDE9-BE6E-488A-AEF1-9F95F11C00F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0F8561-A5B6-4B7D-B14B-FFCE35809B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D95360-E9C4-4F67-9695-2E0A8C161B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DA8455-04BA-48A4-B48C-B5606E030F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ED5BEF-375E-4678-A5D3-00666AA413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CAD41-5146-43F7-8442-24664E6759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FDDE59-CFD3-4056-A520-5619C14418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683AE95-2071-4672-97C3-85CF50D05A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6FD98CF-98FF-4ACD-9128-60E40405CD8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D60D386-EEFD-4C04-817A-11024A3A7FE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6BB754-8E21-45F2-B83B-4E0662A7DAF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C3E9EE-8D37-4BEC-B329-8F248A64483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1A82361-571E-4F18-B67C-55347EADD29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01B9BD-197D-4056-B559-3EA272BA509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006DE7-ECB3-454D-A77D-B138AF0C21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B73D82-E57F-4B9C-A1A2-792CA6CE54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000CB-0CE5-40B1-AED7-414C4A018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8BD485-1B3F-4ADB-A916-D201DC0973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CDB58D-B3F3-497A-988A-0A638309C2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B3AC6A8-E3F7-49BD-A404-D965A75EED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A556060-946D-419C-B9AE-608D833E122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84860A4-74C6-4D6A-8D90-BEB68F54F65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AF2417A-5C87-418D-9CDE-6CF2BA7B4FC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C8052F8-08D3-4D6E-BA42-A19A5656386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9D51B1F-AEF3-4B3A-8E7B-95A20EEE38D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E224071-82A7-44E9-8C4D-C3DFB0B62CB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A886196-5C9A-4035-A239-5F88260AF30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BA370-5A4B-4E04-ACD5-3FE8F6972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4A77A74-07B0-4F25-8CD8-A0C857561F9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48F7A3-398E-4893-941C-6437AF9F58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EF1C13-6739-4601-8AC8-C815F7B964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3"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DB8E29-0689-41CD-B615-1B6B1747C5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6"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E043B9D-E87C-433A-8E21-99F578F85CC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89BA164-C71A-45DD-ADAF-0DCAAE3D854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3"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4"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5"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6"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7"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8"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3A88409-9349-4E95-ACE9-F6B26F20DCC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8290801-D3E5-4AC7-B958-6476AC9E0B0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54F9568-CCC5-4632-BB1C-34392D8853F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0"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7E563DA-2FF1-4DA1-9244-44AFE77A5C1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BB499-8BCE-4FA4-89F1-AA8A64887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8B6F801-0A0C-47EB-BE20-5F4C1F1F266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FD9510E-E53F-4DC6-8DB6-253E274A866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B6457D9-E276-424F-9276-1CDB79C97D6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D3390E-D7C1-4D11-99A9-D424E74089E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BF6B2C6-0D64-41E3-BE4B-707E476FE6B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7"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799E5C-E3BC-45EF-B97A-45BD24A71BF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1202DEC-EBD2-474E-AD7E-4B4E3EBF17E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5"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2CC390E-A0C6-4F57-A04C-E8012D71126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7"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8"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9"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0"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B8DA164-090E-4D03-A993-5F11B9A5841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60AA250-7D47-448C-9DA5-BB635DE1E11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2484D-F563-493F-B954-168FFCBA9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F81C628-881D-45B6-80D1-F679068C660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0C7D02E-0003-467C-806B-A1A41188805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05989E6-1B9F-449B-93EF-892CFC95970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1010795-7E02-44FD-89A8-E49899A8896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0682731-BDA9-44CC-86B2-EE0A9A288E4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E2FB7DC-B688-4DF9-BC05-DA2BDECE819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C62D3EC-5FBC-4C5A-99CB-512BAC6C26F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FEAC402-F832-4D63-BB3E-E9EEB8AACFE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5FF7B9E-1273-4F19-A2D3-DF796E47B3D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F27AAA7-03DE-430E-B84F-132CEF1D7D5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5D70C-7C8C-4CE6-B15D-8EB20D291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3280BAB-9055-4CB9-A7B0-B51C9254574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23247D6-B752-4E0E-A782-83664297289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6BC05BE-CFEC-4626-B8E9-568A4B5E218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5362F96-776B-4B7C-A06F-B7AB6C391F1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DD459FA-BBCF-4BE1-98F3-2A4B78317F1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5BAA580-DB7F-40F0-AEF5-AAA2894E2E4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68196AC-5E5F-4ABA-B0EA-E4CF133FDA4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A534D18-2830-43CE-BFB2-24BC2E31C39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4738102-9A63-4D84-92E4-C008FDB51DC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EED1CEF-6EFC-4A32-8C80-522110419F9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B0523-C12C-4B36-BB70-184892177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DA4B4CB-98FF-434E-A1D4-F244DD8FF31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17E3598-33A5-47ED-A11D-5741E76D35F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DB95077-9B38-45D7-84BB-FBC02645FCA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94BCA-652C-4BDC-859A-592854A79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C1A32-A69A-46A4-BCB7-4669771C8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36CEC-2EF1-4822-A908-064FB2C60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039B6-5C3C-438E-BBAA-912742182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8355F6-C8BE-4112-AC35-00B9F8CFE7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4362A8-2604-48DA-A340-C0EA12CEEE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296B34-0F45-4F22-B3B5-A24EA1147D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C35A9C-9EE7-4DED-9D0A-2946895712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78D199-8801-4D17-A2EF-2D04A1765B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3AE00C-4BCD-40B8-8F37-A16E4B82E9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E43EFC-5C4B-40D7-9ABB-4C78BF269D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58A9C-04E1-40FA-AAA1-37383A76B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16E250-0663-4FE8-A667-C88B5F5379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6BD8FE-C17F-4906-8941-5253002BDD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68B387-1361-4A99-AFAB-32C4D71B7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4EB95-1978-4D66-A452-64813F39DB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C97A00-D6F4-4A2C-992F-812DB68DC6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046680-C29F-49BD-825D-98DAD90EC1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1A11F7-49B1-41EF-85A2-CF30021F34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3B4844-249B-4E35-B918-7A58BF97C0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63AEC5-A199-484C-8E8D-0EFC56C19F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287ABD-8884-48C5-9522-9E0E6111AB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4EAE7-E122-4071-A202-64ED36C8D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77E823-889E-4E71-B9BE-310CE1CA1B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573BD2-F8CD-42C9-A5A3-73DDDF2D05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34BB42-167F-4C6A-AA00-74EEF97DA5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586D30-8E15-4A74-889D-8605B7B255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3DD3DF-5483-43D5-A0D5-E21B69DA0A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4C3D83-AF88-4DFD-8ED9-ECB14D7EBF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CD6485-F857-49CE-8B50-E6112EE8C2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1264BD-27D1-4E1F-86E6-98291D4E56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FC12DC-1A62-4535-95E8-A6FB93FE12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814952-2615-4448-AA5B-18DBCBA4FE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93746-9A65-4B5D-A57C-6D268E986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4F05A8-E11F-48EC-842A-A55D9D85E6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69FF49-6680-4CA2-9B6E-CCC5F42015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CF79BA-8390-447D-B836-E1F7A81518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453F92-022F-4541-9DD4-6A2626CCFA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C0F80D-C9AD-4404-B9B5-F8B57D6AB8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422F77-45C6-458A-8FE5-E122929C8B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076F53-7153-47D6-B984-3899311E23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1D8D4F-D1D3-49A6-8D3A-34AE723EC1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E507C1-6B29-47AB-83B9-AB3FD35C1F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17B029-4388-43E1-92F9-990989607E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1AAE2-752F-475B-B354-C8525A746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90E783-5DB5-4893-A594-99E7DE58D4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EB778C-ABF8-498F-BD86-C4D7420082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A645FA-9BC3-4013-AF35-F3E5505840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181CFD-904E-45BC-AEB1-5F34F347E4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990DC2-DDB6-4837-83B5-457260D065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36BFDD-6439-4CC0-99CB-B9E73787D4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FC06B6-64CB-4390-900F-EB9D1F8FDC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3319F9-037E-4B8A-BD1E-5117250E88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67CE7F-19A6-490C-8532-F701FC6FBB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323EFC-8F51-44F8-9463-76D28EC86F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43537-26FC-4307-B130-73EDECDFA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1F40A8-C6CE-4FAE-AFA1-5DC72A9068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ED362B-F4D1-4B13-89D9-40BB14B7E8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E3B798-D500-4AB9-8E4C-9B7890D758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484022-C3F7-4407-BCAF-7C1C9242E2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BE4DDE-5A6F-473C-A955-AAF506AAA5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2C3CEA-AB89-4A91-B4CD-D75D76C621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7E3F78-ADA0-426C-A27A-20B35089DA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6C2BC6-3E45-404B-B269-F40B710D22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EDEC46-FE88-4D8F-BCEA-C34865D790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9FABC6-1215-403E-90DD-D195CC5671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F7BF2-14DD-416A-A3F7-8361D92C9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FB7FE3-9E4F-4B87-96BF-1AC386013B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6CC75A-4A9A-4B3F-868E-01B8175F5C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341697-11BF-4D86-8D1A-74EC066943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741AF4-FC88-4B5E-B038-76CF109FB4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14EBC0-A6E4-480E-B071-CE8FBA0F0C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73E1D2-AF1A-48E6-9505-60A86D756F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66322A-DA39-4CF8-A5E1-89C7286507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33B042-3067-4E44-8870-A4DB11A0EA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0B24DD-CED2-4000-A79F-181E3E2E1D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615101-A8DD-487B-93FF-756662BAAA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DE40B-72D9-4C5A-A0B5-D939EC12B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14B5EF-6A1B-461D-860B-843850FCEA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2DC25D-93B8-47B7-998E-9DD08718AD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2"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BE9EE6-F3F8-4A72-8291-2CA1A3A677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3FF7BA-47B6-495A-9CDE-332CC099DC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3E23E2-3620-4354-A29D-0A32D5DCE4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4"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31EA1C-D9A9-4CB0-8F56-1382C8A607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DDE9F9-0355-4AB3-96B0-F2716720D2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D1A174-BE74-488D-A8F0-F47D161D04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5B03F7-70FF-4F9F-836F-FC829AE655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788192-81EA-4D86-841A-65F380B581A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oogle Shape;6;p18"/>
          <p:cNvGrpSpPr/>
          <p:nvPr/>
        </p:nvGrpSpPr>
        <p:grpSpPr>
          <a:xfrm>
            <a:off x="8150400" y="-6480"/>
            <a:ext cx="1000080" cy="6870960"/>
            <a:chOff x="8150400" y="-6480"/>
            <a:chExt cx="1000080" cy="6870960"/>
          </a:xfrm>
        </p:grpSpPr>
        <p:pic>
          <p:nvPicPr>
            <p:cNvPr id="1" name="Google Shape;6;p1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22134-D7F0-4409-B445-0DCD4F540A2A}"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6" name="Google Shape;6;p18"/>
          <p:cNvGrpSpPr/>
          <p:nvPr/>
        </p:nvGrpSpPr>
        <p:grpSpPr>
          <a:xfrm>
            <a:off x="8150400" y="-6480"/>
            <a:ext cx="1000080" cy="6870960"/>
            <a:chOff x="8150400" y="-6480"/>
            <a:chExt cx="1000080" cy="6870960"/>
          </a:xfrm>
        </p:grpSpPr>
        <p:pic>
          <p:nvPicPr>
            <p:cNvPr id="397" name="Google Shape;6;p18" descr=""/>
            <p:cNvPicPr/>
            <p:nvPr/>
          </p:nvPicPr>
          <p:blipFill>
            <a:blip r:embed="rId2"/>
            <a:stretch/>
          </p:blipFill>
          <p:spPr>
            <a:xfrm>
              <a:off x="8150400" y="-6480"/>
              <a:ext cx="1000080" cy="6870960"/>
            </a:xfrm>
            <a:prstGeom prst="rect">
              <a:avLst/>
            </a:prstGeom>
            <a:ln w="0">
              <a:noFill/>
            </a:ln>
          </p:spPr>
        </p:pic>
        <p:sp>
          <p:nvSpPr>
            <p:cNvPr id="398"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00"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01" name="PlaceHolder 3"/>
          <p:cNvSpPr>
            <a:spLocks noGrp="1"/>
          </p:cNvSpPr>
          <p:nvPr>
            <p:ph type="dt" idx="28"/>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2" name="PlaceHolder 4"/>
          <p:cNvSpPr>
            <a:spLocks noGrp="1"/>
          </p:cNvSpPr>
          <p:nvPr>
            <p:ph type="ftr" idx="29"/>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PlaceHolder 5"/>
          <p:cNvSpPr>
            <a:spLocks noGrp="1"/>
          </p:cNvSpPr>
          <p:nvPr>
            <p:ph type="sldNum" idx="30"/>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6463B-DCBD-4BBF-BDC5-189FFCCFECD4}"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0" name="Google Shape;6;p18"/>
          <p:cNvGrpSpPr/>
          <p:nvPr/>
        </p:nvGrpSpPr>
        <p:grpSpPr>
          <a:xfrm>
            <a:off x="8150400" y="-6480"/>
            <a:ext cx="1000080" cy="6870960"/>
            <a:chOff x="8150400" y="-6480"/>
            <a:chExt cx="1000080" cy="6870960"/>
          </a:xfrm>
        </p:grpSpPr>
        <p:pic>
          <p:nvPicPr>
            <p:cNvPr id="441" name="Google Shape;6;p18" descr=""/>
            <p:cNvPicPr/>
            <p:nvPr/>
          </p:nvPicPr>
          <p:blipFill>
            <a:blip r:embed="rId2"/>
            <a:stretch/>
          </p:blipFill>
          <p:spPr>
            <a:xfrm>
              <a:off x="8150400" y="-6480"/>
              <a:ext cx="1000080" cy="6870960"/>
            </a:xfrm>
            <a:prstGeom prst="rect">
              <a:avLst/>
            </a:prstGeom>
            <a:ln w="0">
              <a:noFill/>
            </a:ln>
          </p:spPr>
        </p:pic>
        <p:sp>
          <p:nvSpPr>
            <p:cNvPr id="44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4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4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45" name="PlaceHolder 3"/>
          <p:cNvSpPr>
            <a:spLocks noGrp="1"/>
          </p:cNvSpPr>
          <p:nvPr>
            <p:ph type="dt" idx="31"/>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6" name="PlaceHolder 4"/>
          <p:cNvSpPr>
            <a:spLocks noGrp="1"/>
          </p:cNvSpPr>
          <p:nvPr>
            <p:ph type="ftr" idx="32"/>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7" name="PlaceHolder 5"/>
          <p:cNvSpPr>
            <a:spLocks noGrp="1"/>
          </p:cNvSpPr>
          <p:nvPr>
            <p:ph type="sldNum" idx="3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51281-D098-4E2C-8113-9F310A2294C5}"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Google Shape;6;p18"/>
          <p:cNvGrpSpPr/>
          <p:nvPr/>
        </p:nvGrpSpPr>
        <p:grpSpPr>
          <a:xfrm>
            <a:off x="8150400" y="-6480"/>
            <a:ext cx="1000080" cy="6870960"/>
            <a:chOff x="8150400" y="-6480"/>
            <a:chExt cx="1000080" cy="6870960"/>
          </a:xfrm>
        </p:grpSpPr>
        <p:pic>
          <p:nvPicPr>
            <p:cNvPr id="485" name="Google Shape;6;p18" descr=""/>
            <p:cNvPicPr/>
            <p:nvPr/>
          </p:nvPicPr>
          <p:blipFill>
            <a:blip r:embed="rId2"/>
            <a:stretch/>
          </p:blipFill>
          <p:spPr>
            <a:xfrm>
              <a:off x="8150400" y="-6480"/>
              <a:ext cx="1000080" cy="6870960"/>
            </a:xfrm>
            <a:prstGeom prst="rect">
              <a:avLst/>
            </a:prstGeom>
            <a:ln w="0">
              <a:noFill/>
            </a:ln>
          </p:spPr>
        </p:pic>
        <p:sp>
          <p:nvSpPr>
            <p:cNvPr id="48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8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8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89" name="PlaceHolder 3"/>
          <p:cNvSpPr>
            <a:spLocks noGrp="1"/>
          </p:cNvSpPr>
          <p:nvPr>
            <p:ph type="dt" idx="34"/>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0" name="PlaceHolder 4"/>
          <p:cNvSpPr>
            <a:spLocks noGrp="1"/>
          </p:cNvSpPr>
          <p:nvPr>
            <p:ph type="ftr" idx="35"/>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1" name="PlaceHolder 5"/>
          <p:cNvSpPr>
            <a:spLocks noGrp="1"/>
          </p:cNvSpPr>
          <p:nvPr>
            <p:ph type="sldNum" idx="36"/>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D4C5-5D4F-4C1F-9D0C-C3706F22D2F0}"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29"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30" name="PlaceHolder 3"/>
          <p:cNvSpPr>
            <a:spLocks noGrp="1"/>
          </p:cNvSpPr>
          <p:nvPr>
            <p:ph type="dt" idx="37"/>
          </p:nvPr>
        </p:nvSpPr>
        <p:spPr>
          <a:xfrm>
            <a:off x="5870160" y="6558120"/>
            <a:ext cx="200340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PlaceHolder 4"/>
          <p:cNvSpPr>
            <a:spLocks noGrp="1"/>
          </p:cNvSpPr>
          <p:nvPr>
            <p:ph type="ftr" idx="38"/>
          </p:nvPr>
        </p:nvSpPr>
        <p:spPr>
          <a:xfrm>
            <a:off x="2819160" y="6557760"/>
            <a:ext cx="292716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2" name="PlaceHolder 5"/>
          <p:cNvSpPr>
            <a:spLocks noGrp="1"/>
          </p:cNvSpPr>
          <p:nvPr>
            <p:ph type="sldNum" idx="39"/>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fffff"/>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D8C2-063E-4C96-B374-43ECCA8A5589}" type="slidenum">
              <a:rPr b="0" lang="sr-RS" sz="1100" spc="-1" strike="noStrike">
                <a:solidFill>
                  <a:srgbClr val="ffffff"/>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9" name="Google Shape;71;p28"/>
          <p:cNvGrpSpPr/>
          <p:nvPr/>
        </p:nvGrpSpPr>
        <p:grpSpPr>
          <a:xfrm>
            <a:off x="8150400" y="-6480"/>
            <a:ext cx="1000080" cy="6870960"/>
            <a:chOff x="8150400" y="-6480"/>
            <a:chExt cx="1000080" cy="6870960"/>
          </a:xfrm>
        </p:grpSpPr>
        <p:pic>
          <p:nvPicPr>
            <p:cNvPr id="570" name="Google Shape;71;p28" descr=""/>
            <p:cNvPicPr/>
            <p:nvPr/>
          </p:nvPicPr>
          <p:blipFill>
            <a:blip r:embed="rId2"/>
            <a:stretch/>
          </p:blipFill>
          <p:spPr>
            <a:xfrm>
              <a:off x="8150400" y="-6480"/>
              <a:ext cx="1000080" cy="6870960"/>
            </a:xfrm>
            <a:prstGeom prst="rect">
              <a:avLst/>
            </a:prstGeom>
            <a:ln w="0">
              <a:noFill/>
            </a:ln>
          </p:spPr>
        </p:pic>
        <p:sp>
          <p:nvSpPr>
            <p:cNvPr id="571"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73"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74" name="PlaceHolder 3"/>
          <p:cNvSpPr>
            <a:spLocks noGrp="1"/>
          </p:cNvSpPr>
          <p:nvPr>
            <p:ph type="dt" idx="40"/>
          </p:nvPr>
        </p:nvSpPr>
        <p:spPr>
          <a:xfrm>
            <a:off x="4723920" y="6555960"/>
            <a:ext cx="2001960" cy="22716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5" name="PlaceHolder 4"/>
          <p:cNvSpPr>
            <a:spLocks noGrp="1"/>
          </p:cNvSpPr>
          <p:nvPr>
            <p:ph type="ftr" idx="41"/>
          </p:nvPr>
        </p:nvSpPr>
        <p:spPr>
          <a:xfrm>
            <a:off x="1734840" y="6555960"/>
            <a:ext cx="289548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6" name="PlaceHolder 5"/>
          <p:cNvSpPr>
            <a:spLocks noGrp="1"/>
          </p:cNvSpPr>
          <p:nvPr>
            <p:ph type="sldNum" idx="42"/>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798B-33BD-4228-8DAB-82D46ED8FCFA}"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1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15" name="PlaceHolder 3"/>
          <p:cNvSpPr>
            <a:spLocks noGrp="1"/>
          </p:cNvSpPr>
          <p:nvPr>
            <p:ph type="dt" idx="43"/>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PlaceHolder 4"/>
          <p:cNvSpPr>
            <a:spLocks noGrp="1"/>
          </p:cNvSpPr>
          <p:nvPr>
            <p:ph type="ftr" idx="44"/>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7" name="PlaceHolder 5"/>
          <p:cNvSpPr>
            <a:spLocks noGrp="1"/>
          </p:cNvSpPr>
          <p:nvPr>
            <p:ph type="sldNum" idx="45"/>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4e7ed"/>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A5B3-E089-4AF8-B99E-C28C3B0DF3D9}" type="slidenum">
              <a:rPr b="0" lang="sr-RS" sz="1100" spc="-1" strike="noStrike">
                <a:solidFill>
                  <a:srgbClr val="f4e7ed"/>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Google Shape;99;p32"/>
          <p:cNvGrpSpPr/>
          <p:nvPr/>
        </p:nvGrpSpPr>
        <p:grpSpPr>
          <a:xfrm>
            <a:off x="8150400" y="-6480"/>
            <a:ext cx="1000080" cy="6870960"/>
            <a:chOff x="8150400" y="-6480"/>
            <a:chExt cx="1000080" cy="6870960"/>
          </a:xfrm>
        </p:grpSpPr>
        <p:pic>
          <p:nvPicPr>
            <p:cNvPr id="655" name="Google Shape;99;p32" descr=""/>
            <p:cNvPicPr/>
            <p:nvPr/>
          </p:nvPicPr>
          <p:blipFill>
            <a:blip r:embed="rId2"/>
            <a:stretch/>
          </p:blipFill>
          <p:spPr>
            <a:xfrm>
              <a:off x="8150400" y="-6480"/>
              <a:ext cx="1000080" cy="6870960"/>
            </a:xfrm>
            <a:prstGeom prst="rect">
              <a:avLst/>
            </a:prstGeom>
            <a:ln w="0">
              <a:noFill/>
            </a:ln>
          </p:spPr>
        </p:pic>
        <p:sp>
          <p:nvSpPr>
            <p:cNvPr id="65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5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59" name="PlaceHolder 3"/>
          <p:cNvSpPr>
            <a:spLocks noGrp="1"/>
          </p:cNvSpPr>
          <p:nvPr>
            <p:ph type="dt" idx="46"/>
          </p:nvPr>
        </p:nvSpPr>
        <p:spPr>
          <a:xfrm>
            <a:off x="424296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0" name="PlaceHolder 4"/>
          <p:cNvSpPr>
            <a:spLocks noGrp="1"/>
          </p:cNvSpPr>
          <p:nvPr>
            <p:ph type="ftr" idx="47"/>
          </p:nvPr>
        </p:nvSpPr>
        <p:spPr>
          <a:xfrm>
            <a:off x="457200" y="65559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1" name="PlaceHolder 5"/>
          <p:cNvSpPr>
            <a:spLocks noGrp="1"/>
          </p:cNvSpPr>
          <p:nvPr>
            <p:ph type="sldNum" idx="48"/>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C8B4F-AC2B-4096-97E7-B920F01F0D0B}"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oogle Shape;57;p26"/>
          <p:cNvGrpSpPr/>
          <p:nvPr/>
        </p:nvGrpSpPr>
        <p:grpSpPr>
          <a:xfrm>
            <a:off x="2664000" y="-6480"/>
            <a:ext cx="6486480" cy="6870960"/>
            <a:chOff x="2664000" y="-6480"/>
            <a:chExt cx="6486480" cy="6870960"/>
          </a:xfrm>
        </p:grpSpPr>
        <p:pic>
          <p:nvPicPr>
            <p:cNvPr id="45" name="Google Shape;57;p26"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cxnSp>
        <p:nvCxnSpPr>
          <p:cNvPr id="47" name="Google Shape;58;p26"/>
          <p:cNvCxnSpPr/>
          <p:nvPr/>
        </p:nvCxnSpPr>
        <p:spPr>
          <a:xfrm flipV="1">
            <a:off x="2666520" y="-360"/>
            <a:ext cx="1080" cy="6858720"/>
          </a:xfrm>
          <a:prstGeom prst="straightConnector1">
            <a:avLst/>
          </a:prstGeom>
          <a:ln w="11520">
            <a:solidFill>
              <a:srgbClr val="f9f9f9"/>
            </a:solidFill>
            <a:miter/>
          </a:ln>
        </p:spPr>
      </p:cxn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fffff"/>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D73B7-7605-469A-8744-EFA79CAE4643}" type="slidenum">
              <a:rPr b="0" lang="sr-RS" sz="1100" spc="-1" strike="noStrike">
                <a:solidFill>
                  <a:srgbClr val="ffffff"/>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oogle Shape;71;p28"/>
          <p:cNvGrpSpPr/>
          <p:nvPr/>
        </p:nvGrpSpPr>
        <p:grpSpPr>
          <a:xfrm>
            <a:off x="8150400" y="-6480"/>
            <a:ext cx="1000080" cy="6870960"/>
            <a:chOff x="8150400" y="-6480"/>
            <a:chExt cx="1000080" cy="6870960"/>
          </a:xfrm>
        </p:grpSpPr>
        <p:pic>
          <p:nvPicPr>
            <p:cNvPr id="90" name="Google Shape;71;p2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01FEE-4FF7-43D5-B133-1960A46101F4}"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Google Shape;84;p30"/>
          <p:cNvSpPr/>
          <p:nvPr/>
        </p:nvSpPr>
        <p:spPr>
          <a:xfrm rot="21240000">
            <a:off x="598320" y="1004760"/>
            <a:ext cx="4319640" cy="4311720"/>
          </a:xfrm>
          <a:prstGeom prst="rect">
            <a:avLst/>
          </a:prstGeom>
          <a:solidFill>
            <a:srgbClr val="fafafa"/>
          </a:solidFill>
          <a:ln cap="rnd" w="936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Google Shape;85;p30"/>
          <p:cNvSpPr/>
          <p:nvPr/>
        </p:nvSpPr>
        <p:spPr>
          <a:xfrm rot="21420000">
            <a:off x="596880" y="998280"/>
            <a:ext cx="4319640" cy="4313160"/>
          </a:xfrm>
          <a:prstGeom prst="rect">
            <a:avLst/>
          </a:prstGeom>
          <a:solidFill>
            <a:srgbClr val="fafafa"/>
          </a:solidFill>
          <a:ln cap="rnd" w="936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4e7ed"/>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EF55F-8A21-423D-9B8A-E1A95CCC121F}" type="slidenum">
              <a:rPr b="0" lang="sr-RS" sz="1100" spc="-1" strike="noStrike">
                <a:solidFill>
                  <a:srgbClr val="f4e7ed"/>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Google Shape;99;p32"/>
          <p:cNvGrpSpPr/>
          <p:nvPr/>
        </p:nvGrpSpPr>
        <p:grpSpPr>
          <a:xfrm>
            <a:off x="8150400" y="-6480"/>
            <a:ext cx="1000080" cy="6870960"/>
            <a:chOff x="8150400" y="-6480"/>
            <a:chExt cx="1000080" cy="6870960"/>
          </a:xfrm>
        </p:grpSpPr>
        <p:pic>
          <p:nvPicPr>
            <p:cNvPr id="177" name="Google Shape;99;p32"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95D50-8F77-44FB-AB7C-76208B1283BF}"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Google Shape;6;p18"/>
          <p:cNvGrpSpPr/>
          <p:nvPr/>
        </p:nvGrpSpPr>
        <p:grpSpPr>
          <a:xfrm>
            <a:off x="8150400" y="-6480"/>
            <a:ext cx="1000080" cy="6870960"/>
            <a:chOff x="8150400" y="-6480"/>
            <a:chExt cx="1000080" cy="6870960"/>
          </a:xfrm>
        </p:grpSpPr>
        <p:pic>
          <p:nvPicPr>
            <p:cNvPr id="221" name="Google Shape;6;p18" descr=""/>
            <p:cNvPicPr/>
            <p:nvPr/>
          </p:nvPicPr>
          <p:blipFill>
            <a:blip r:embed="rId2"/>
            <a:stretch/>
          </p:blipFill>
          <p:spPr>
            <a:xfrm>
              <a:off x="8150400" y="-6480"/>
              <a:ext cx="1000080" cy="6870960"/>
            </a:xfrm>
            <a:prstGeom prst="rect">
              <a:avLst/>
            </a:prstGeom>
            <a:ln w="0">
              <a:noFill/>
            </a:ln>
          </p:spPr>
        </p:pic>
        <p:sp>
          <p:nvSpPr>
            <p:cNvPr id="22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25" name="PlaceHolder 3"/>
          <p:cNvSpPr>
            <a:spLocks noGrp="1"/>
          </p:cNvSpPr>
          <p:nvPr>
            <p:ph type="dt" idx="16"/>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4"/>
          <p:cNvSpPr>
            <a:spLocks noGrp="1"/>
          </p:cNvSpPr>
          <p:nvPr>
            <p:ph type="ftr" idx="17"/>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PlaceHolder 5"/>
          <p:cNvSpPr>
            <a:spLocks noGrp="1"/>
          </p:cNvSpPr>
          <p:nvPr>
            <p:ph type="sldNum" idx="18"/>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110B-6B3F-4233-9D6C-B20D889DC89E}"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Google Shape;6;p18"/>
          <p:cNvGrpSpPr/>
          <p:nvPr/>
        </p:nvGrpSpPr>
        <p:grpSpPr>
          <a:xfrm>
            <a:off x="8150400" y="-6480"/>
            <a:ext cx="1000080" cy="6870960"/>
            <a:chOff x="8150400" y="-6480"/>
            <a:chExt cx="1000080" cy="6870960"/>
          </a:xfrm>
        </p:grpSpPr>
        <p:pic>
          <p:nvPicPr>
            <p:cNvPr id="265" name="Google Shape;6;p18" descr=""/>
            <p:cNvPicPr/>
            <p:nvPr/>
          </p:nvPicPr>
          <p:blipFill>
            <a:blip r:embed="rId2"/>
            <a:stretch/>
          </p:blipFill>
          <p:spPr>
            <a:xfrm>
              <a:off x="8150400" y="-6480"/>
              <a:ext cx="1000080" cy="6870960"/>
            </a:xfrm>
            <a:prstGeom prst="rect">
              <a:avLst/>
            </a:prstGeom>
            <a:ln w="0">
              <a:noFill/>
            </a:ln>
          </p:spPr>
        </p:pic>
        <p:sp>
          <p:nvSpPr>
            <p:cNvPr id="26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6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69" name="PlaceHolder 3"/>
          <p:cNvSpPr>
            <a:spLocks noGrp="1"/>
          </p:cNvSpPr>
          <p:nvPr>
            <p:ph type="dt" idx="19"/>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4"/>
          <p:cNvSpPr>
            <a:spLocks noGrp="1"/>
          </p:cNvSpPr>
          <p:nvPr>
            <p:ph type="ftr" idx="20"/>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5"/>
          <p:cNvSpPr>
            <a:spLocks noGrp="1"/>
          </p:cNvSpPr>
          <p:nvPr>
            <p:ph type="sldNum" idx="21"/>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30B97-6A11-4A7D-A52A-DB4E65ADA5AF}"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Google Shape;6;p18"/>
          <p:cNvGrpSpPr/>
          <p:nvPr/>
        </p:nvGrpSpPr>
        <p:grpSpPr>
          <a:xfrm>
            <a:off x="8150400" y="-6480"/>
            <a:ext cx="1000080" cy="6870960"/>
            <a:chOff x="8150400" y="-6480"/>
            <a:chExt cx="1000080" cy="6870960"/>
          </a:xfrm>
        </p:grpSpPr>
        <p:pic>
          <p:nvPicPr>
            <p:cNvPr id="309" name="Google Shape;6;p18" descr=""/>
            <p:cNvPicPr/>
            <p:nvPr/>
          </p:nvPicPr>
          <p:blipFill>
            <a:blip r:embed="rId2"/>
            <a:stretch/>
          </p:blipFill>
          <p:spPr>
            <a:xfrm>
              <a:off x="8150400" y="-6480"/>
              <a:ext cx="1000080" cy="6870960"/>
            </a:xfrm>
            <a:prstGeom prst="rect">
              <a:avLst/>
            </a:prstGeom>
            <a:ln w="0">
              <a:noFill/>
            </a:ln>
          </p:spPr>
        </p:pic>
        <p:sp>
          <p:nvSpPr>
            <p:cNvPr id="310"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12"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13" name="PlaceHolder 3"/>
          <p:cNvSpPr>
            <a:spLocks noGrp="1"/>
          </p:cNvSpPr>
          <p:nvPr>
            <p:ph type="dt" idx="22"/>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PlaceHolder 4"/>
          <p:cNvSpPr>
            <a:spLocks noGrp="1"/>
          </p:cNvSpPr>
          <p:nvPr>
            <p:ph type="ftr" idx="23"/>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PlaceHolder 5"/>
          <p:cNvSpPr>
            <a:spLocks noGrp="1"/>
          </p:cNvSpPr>
          <p:nvPr>
            <p:ph type="sldNum" idx="24"/>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0BFCE-186C-414B-B25F-4CE9ADDE68B0}"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2" name="Google Shape;6;p18"/>
          <p:cNvGrpSpPr/>
          <p:nvPr/>
        </p:nvGrpSpPr>
        <p:grpSpPr>
          <a:xfrm>
            <a:off x="8150400" y="-6480"/>
            <a:ext cx="1000080" cy="6870960"/>
            <a:chOff x="8150400" y="-6480"/>
            <a:chExt cx="1000080" cy="6870960"/>
          </a:xfrm>
        </p:grpSpPr>
        <p:pic>
          <p:nvPicPr>
            <p:cNvPr id="353" name="Google Shape;6;p18" descr=""/>
            <p:cNvPicPr/>
            <p:nvPr/>
          </p:nvPicPr>
          <p:blipFill>
            <a:blip r:embed="rId2"/>
            <a:stretch/>
          </p:blipFill>
          <p:spPr>
            <a:xfrm>
              <a:off x="8150400" y="-6480"/>
              <a:ext cx="1000080" cy="6870960"/>
            </a:xfrm>
            <a:prstGeom prst="rect">
              <a:avLst/>
            </a:prstGeom>
            <a:ln w="0">
              <a:noFill/>
            </a:ln>
          </p:spPr>
        </p:pic>
        <p:sp>
          <p:nvSpPr>
            <p:cNvPr id="354"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56"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7" name="PlaceHolder 3"/>
          <p:cNvSpPr>
            <a:spLocks noGrp="1"/>
          </p:cNvSpPr>
          <p:nvPr>
            <p:ph type="dt" idx="25"/>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8" name="PlaceHolder 4"/>
          <p:cNvSpPr>
            <a:spLocks noGrp="1"/>
          </p:cNvSpPr>
          <p:nvPr>
            <p:ph type="ftr" idx="26"/>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PlaceHolder 5"/>
          <p:cNvSpPr>
            <a:spLocks noGrp="1"/>
          </p:cNvSpPr>
          <p:nvPr>
            <p:ph type="sldNum" idx="27"/>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F3AAF-EBDB-48EC-A845-CB42EBCD626F}"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Google Shape;115;p1"/>
          <p:cNvSpPr/>
          <p:nvPr/>
        </p:nvSpPr>
        <p:spPr>
          <a:xfrm>
            <a:off x="2205000" y="500040"/>
            <a:ext cx="4388040" cy="9147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b13f9a"/>
                </a:solidFill>
                <a:latin typeface="Times New Roman"/>
                <a:ea typeface="Times New Roman"/>
              </a:rPr>
              <a:t>Faculty of Medical Sciences in Kragujeva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b13f9a"/>
                </a:solidFill>
                <a:latin typeface="Times New Roman"/>
                <a:ea typeface="Times New Roman"/>
              </a:rPr>
              <a:t>Integrated academic studies of medic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9" name="Google Shape;116;p1" descr="mf"/>
          <p:cNvPicPr/>
          <p:nvPr/>
        </p:nvPicPr>
        <p:blipFill>
          <a:blip r:embed="rId1"/>
          <a:stretch/>
        </p:blipFill>
        <p:spPr>
          <a:xfrm>
            <a:off x="8101080" y="0"/>
            <a:ext cx="1042920" cy="1405080"/>
          </a:xfrm>
          <a:prstGeom prst="rect">
            <a:avLst/>
          </a:prstGeom>
          <a:ln w="0">
            <a:noFill/>
          </a:ln>
        </p:spPr>
      </p:pic>
      <p:sp>
        <p:nvSpPr>
          <p:cNvPr id="700" name="Google Shape;118;p1"/>
          <p:cNvSpPr/>
          <p:nvPr/>
        </p:nvSpPr>
        <p:spPr>
          <a:xfrm>
            <a:off x="1835280" y="3124080"/>
            <a:ext cx="5545080" cy="1554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imes New Roman"/>
                <a:ea typeface="Times New Roman"/>
              </a:rPr>
              <a:t>Communication with the geriatric population</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1" name="Google Shape;119;p1"/>
          <p:cNvSpPr/>
          <p:nvPr/>
        </p:nvSpPr>
        <p:spPr>
          <a:xfrm>
            <a:off x="3209760" y="5986440"/>
            <a:ext cx="4753080" cy="3967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b13f9a"/>
                </a:solidFill>
                <a:latin typeface="Times New Roman"/>
                <a:ea typeface="Times New Roman"/>
              </a:rPr>
              <a:t> </a:t>
            </a:r>
            <a:r>
              <a:rPr b="0" lang="en-US" sz="2000" spc="-1" strike="noStrike">
                <a:solidFill>
                  <a:srgbClr val="b13f9a"/>
                </a:solidFill>
                <a:latin typeface="Times New Roman"/>
                <a:ea typeface="Times New Roman"/>
              </a:rPr>
              <a:t>Assistant p</a:t>
            </a:r>
            <a:r>
              <a:rPr b="0" lang="sr-RS" sz="2000" spc="-1" strike="noStrike">
                <a:solidFill>
                  <a:srgbClr val="b13f9a"/>
                </a:solidFill>
                <a:latin typeface="Times New Roman"/>
                <a:ea typeface="Times New Roman"/>
              </a:rPr>
              <a:t>rof</a:t>
            </a:r>
            <a:r>
              <a:rPr b="0" lang="en-US" sz="2000" spc="-1" strike="noStrike">
                <a:solidFill>
                  <a:srgbClr val="b13f9a"/>
                </a:solidFill>
                <a:latin typeface="Times New Roman"/>
                <a:ea typeface="Times New Roman"/>
              </a:rPr>
              <a:t>fesor </a:t>
            </a:r>
            <a:r>
              <a:rPr b="0" lang="sr-RS" sz="2000" spc="-1" strike="noStrike">
                <a:solidFill>
                  <a:srgbClr val="b13f9a"/>
                </a:solidFill>
                <a:latin typeface="Times New Roman"/>
                <a:ea typeface="Times New Roman"/>
              </a:rPr>
              <a:t> </a:t>
            </a:r>
            <a:r>
              <a:rPr b="0" lang="en-US" sz="2000" spc="-1" strike="noStrike">
                <a:solidFill>
                  <a:srgbClr val="b13f9a"/>
                </a:solidFill>
                <a:latin typeface="Times New Roman"/>
                <a:ea typeface="Times New Roman"/>
              </a:rPr>
              <a:t>Branimir Radmanov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bd388"/>
                </a:solidFill>
                <a:latin typeface="Trebuchet MS"/>
                <a:ea typeface="Trebuchet MS"/>
              </a:rPr>
              <a:t>DEMENTIA - PROGRESSIVE DIFFICULTIES IN COMMUNICATION</a:t>
            </a:r>
            <a:endParaRPr b="0" lang="en-US" sz="2800" spc="-1" strike="noStrike">
              <a:solidFill>
                <a:srgbClr val="000000"/>
              </a:solidFill>
              <a:latin typeface="Arial"/>
            </a:endParaRPr>
          </a:p>
        </p:txBody>
      </p:sp>
      <p:sp>
        <p:nvSpPr>
          <p:cNvPr id="719"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During the initial phase</a:t>
            </a:r>
            <a:r>
              <a:rPr b="0" lang="sr-RS" sz="2400" spc="-1" strike="noStrike">
                <a:solidFill>
                  <a:srgbClr val="000000"/>
                </a:solidFill>
                <a:latin typeface="Trebuchet MS"/>
                <a:ea typeface="Trebuchet MS"/>
              </a:rPr>
              <a:t>, sufferers will have problems with language. He will have difficulty following the conversation, and he will struggle to find the right word.</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The sufferer will need more time to think about what you have said and how they should respond. He may even describe what he wants instead of naming the thing he needs: for example, "that thing for my mouth" instead of "a toothbrush."</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This situation is frustrating for the patient, so it is important to show enough patience.</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WHY DO COMMUNICATION PROBLEMS ARISE?</a:t>
            </a:r>
            <a:endParaRPr b="0" lang="en-US" sz="2800" spc="-1" strike="noStrike">
              <a:solidFill>
                <a:srgbClr val="000000"/>
              </a:solidFill>
              <a:latin typeface="Arial"/>
            </a:endParaRPr>
          </a:p>
        </p:txBody>
      </p:sp>
      <p:sp>
        <p:nvSpPr>
          <p:cNvPr id="72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cause of forgetting events from the recent pas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reduced ability to concentrat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cause of the slowed response to stimuli from the environm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hearing and vision problem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the inability to read or understand at all</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NUMEROUS PROBLEMS ARISE WHEN THE SUFFERER TRY TO COMMUNICATE:</a:t>
            </a:r>
            <a:endParaRPr b="0" lang="en-US" sz="2800" spc="-1" strike="noStrike">
              <a:solidFill>
                <a:srgbClr val="000000"/>
              </a:solidFill>
              <a:latin typeface="Arial"/>
            </a:endParaRPr>
          </a:p>
        </p:txBody>
      </p:sp>
      <p:sp>
        <p:nvSpPr>
          <p:cNvPr id="723"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finding the right word that makes their speech unintelligibl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organizing words or thinking logically</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ncreasing reliance on non-verbal gesticulation</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r>
              <a:rPr b="1" lang="sr-Latn-RS" sz="2800" spc="-1" strike="noStrike">
                <a:solidFill>
                  <a:srgbClr val="fbd388"/>
                </a:solidFill>
                <a:latin typeface="Trebuchet MS"/>
                <a:ea typeface="Trebuchet MS"/>
              </a:rPr>
              <a:t>:</a:t>
            </a:r>
            <a:endParaRPr b="0" lang="en-US" sz="2800" spc="-1" strike="noStrike">
              <a:solidFill>
                <a:srgbClr val="000000"/>
              </a:solidFill>
              <a:latin typeface="Arial"/>
            </a:endParaRPr>
          </a:p>
        </p:txBody>
      </p:sp>
      <p:sp>
        <p:nvSpPr>
          <p:cNvPr id="725"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The patient does not want to make the situation difficult for anyone, rather, difficult communication is the result of the diseas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The "reality" of the sufferer is very different from the actual reality - the sufferer of Alzheimer's disease lives in his own truth</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how that you listen and understand what the patient is trying to tell you</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Focus on feelings not fact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endParaRPr b="0" lang="en-US" sz="2800" spc="-1" strike="noStrike">
              <a:solidFill>
                <a:srgbClr val="000000"/>
              </a:solidFill>
              <a:latin typeface="Arial"/>
            </a:endParaRPr>
          </a:p>
        </p:txBody>
      </p:sp>
      <p:sp>
        <p:nvSpPr>
          <p:cNvPr id="727"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Emphasize the importance of what the sufferer </a:t>
            </a:r>
            <a:r>
              <a:rPr b="1" lang="sr-RS" sz="2600" spc="-1" strike="noStrike">
                <a:solidFill>
                  <a:srgbClr val="000000"/>
                </a:solidFill>
                <a:latin typeface="Trebuchet MS"/>
                <a:ea typeface="Trebuchet MS"/>
              </a:rPr>
              <a:t>can do</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Prepare the person for what will happen nex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 realistic; Be pati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o not argue, do not criticize, do not correct the pati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Keep a sense of humor and remember that the person suffering from Alzheimer's disease  has it too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r>
              <a:rPr b="1" lang="sr-Latn-RS" sz="2800" spc="-1" strike="noStrike">
                <a:solidFill>
                  <a:srgbClr val="fbd388"/>
                </a:solidFill>
                <a:latin typeface="Trebuchet MS"/>
                <a:ea typeface="Trebuchet MS"/>
              </a:rPr>
              <a:t>:</a:t>
            </a:r>
            <a:endParaRPr b="0" lang="en-US" sz="2800" spc="-1" strike="noStrike">
              <a:solidFill>
                <a:srgbClr val="000000"/>
              </a:solidFill>
              <a:latin typeface="Arial"/>
            </a:endParaRPr>
          </a:p>
        </p:txBody>
      </p:sp>
      <p:sp>
        <p:nvSpPr>
          <p:cNvPr id="729"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If the behavior cannot harm the patient or others, allow it to take place spontaneously</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What you say and what the patient hears at that moment are usually two different thing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Treat the patient with respect</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RECOMMENDATIONS:</a:t>
            </a:r>
            <a:endParaRPr b="0" lang="en-US" sz="2800" spc="-1" strike="noStrike">
              <a:solidFill>
                <a:srgbClr val="000000"/>
              </a:solidFill>
              <a:latin typeface="Arial"/>
            </a:endParaRPr>
          </a:p>
        </p:txBody>
      </p:sp>
      <p:sp>
        <p:nvSpPr>
          <p:cNvPr id="73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Use simple words, understandable language, short sentenc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Do not communicate like a small child</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Not treating the patient as if he were a thing, not a human being</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Address the person by name and communicate only when you are sure you have their atten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Give them time to reac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Don't interrupt them</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RECOMMENDATIONS:</a:t>
            </a:r>
            <a:endParaRPr b="0" lang="en-US" sz="2800" spc="-1" strike="noStrike">
              <a:solidFill>
                <a:srgbClr val="000000"/>
              </a:solidFill>
              <a:latin typeface="Arial"/>
            </a:endParaRPr>
          </a:p>
        </p:txBody>
      </p:sp>
      <p:sp>
        <p:nvSpPr>
          <p:cNvPr id="733"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If he "runs out" of words, discreetly offer him a solution (phrase or word)</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Formulate questions and instructions in a positive sense</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Watch their non-verbal communication, especially their facial expressions</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Briefly and clearly explain each procedure and/or procedure to them before starting the implementation</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Determine the time of day when they are most communicative</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b13f9a"/>
                </a:solidFill>
                <a:latin typeface="Trebuchet MS"/>
                <a:ea typeface="Trebuchet MS"/>
              </a:rPr>
              <a:t>Be empathetic</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HOW the elderly person that you are interested in them, that you want to get to know them better, that you are sincere in your desire to help them</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void stereotypes (old people are sick, have limited abiliti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sensory abilities (hearing, sight) and adap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psychosocial needs - understand their framework, vulnerability, fear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3" name="PlaceHolder 2"/>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5"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the ability to cope with problems (find out from the conversation how they coped with difficulti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emotional stat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the need for help (do not encourage dependence on others if not necessary)</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7"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Repeat the patient's name several times (to direct atten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Use short sentenc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ssue instructions one at a tim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Communicate and touch</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Give up the request if you recognize frustration, aggress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When repeating the same story, direct the person's attention to the goal</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9"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llow the other person to speak and listen careful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Learn to talk about things that interest other peopl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Be careful with criticism</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Make requests careful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mit your mistakes</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Praise what is worthy of prais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b13f9a"/>
                </a:solidFill>
                <a:latin typeface="Trebuchet MS"/>
                <a:ea typeface="Trebuchet MS"/>
              </a:rPr>
              <a:t>Try to imagine yourself in the role of the other</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void arguments and do not contradict</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how a good mood</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1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The functions of the senses, especially the senses of hearing and sight, weaken with ag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However, there is a great possibility of compensating sensory deficits through various aids such as glasses, hearing aids and the lik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The elderly can adapt to the reduced sensitivity of one sense by better integrating all other information through other sense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VISION</a:t>
            </a:r>
            <a:endParaRPr b="0" lang="en-US" sz="2800" spc="-1" strike="noStrike">
              <a:solidFill>
                <a:srgbClr val="000000"/>
              </a:solidFill>
              <a:latin typeface="Arial"/>
            </a:endParaRPr>
          </a:p>
        </p:txBody>
      </p:sp>
      <p:sp>
        <p:nvSpPr>
          <p:cNvPr id="713"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void very noisy sounds and sudden movement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lways identify yourself when approaching a pers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tate your intentions before you start the conversa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f possible, encourage the visually impaired person to wear glass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Keep the glasses clean and the diopter checked.</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HEARING</a:t>
            </a:r>
            <a:endParaRPr b="0" lang="en-US" sz="2800" spc="-1" strike="noStrike">
              <a:solidFill>
                <a:srgbClr val="000000"/>
              </a:solidFill>
              <a:latin typeface="Arial"/>
            </a:endParaRPr>
          </a:p>
        </p:txBody>
      </p:sp>
      <p:sp>
        <p:nvSpPr>
          <p:cNvPr id="715"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pproach the patient from the side of the fa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dress the patient face to fa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dress the patient by name and touch him/her gent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peak slowly and as clearly as possibl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peak in a lower voi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Use non-verbal communication</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Write something, if necessar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If the person uses a hearing aid, encourage them to continue using it. Be sure to check if the device's battery is working.</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WITH AGEARE MORE COMMON</a:t>
            </a:r>
            <a:endParaRPr b="0" lang="en-US" sz="2800" spc="-1" strike="noStrike">
              <a:solidFill>
                <a:srgbClr val="000000"/>
              </a:solidFill>
              <a:latin typeface="Arial"/>
            </a:endParaRPr>
          </a:p>
        </p:txBody>
      </p:sp>
      <p:sp>
        <p:nvSpPr>
          <p:cNvPr id="717" name="PlaceHolder 2"/>
          <p:cNvSpPr>
            <a:spLocks noGrp="1"/>
          </p:cNvSpPr>
          <p:nvPr>
            <p:ph/>
          </p:nvPr>
        </p:nvSpPr>
        <p:spPr>
          <a:xfrm>
            <a:off x="457200" y="1609200"/>
            <a:ext cx="7238880" cy="4846680"/>
          </a:xfrm>
          <a:prstGeom prst="rect">
            <a:avLst/>
          </a:prstGeom>
          <a:noFill/>
          <a:ln w="0">
            <a:noFill/>
          </a:ln>
        </p:spPr>
        <p:txBody>
          <a:bodyPr anchor="t">
            <a:normAutofit fontScale="98000"/>
          </a:bodyPr>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finding the right word</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Repeating common expressions/words</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Use of new words to describe common terms</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Easy to lose train of thought</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ies in maintaining logic in presentation</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Less and less communication, less and less talk</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ncreasing reliance on gestures rather than speech</a:t>
            </a:r>
            <a:endParaRPr b="0" lang="en-US" sz="2600" spc="-1" strike="noStrike">
              <a:solidFill>
                <a:srgbClr val="000000"/>
              </a:solidFill>
              <a:latin typeface="Arial"/>
            </a:endParaRPr>
          </a:p>
          <a:p>
            <a:pPr marL="301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DF</dc:creator>
  <dc:description/>
  <dc:language>en-US</dc:language>
  <cp:lastModifiedBy>Windows User</cp:lastModifiedBy>
  <dcterms:modified xsi:type="dcterms:W3CDTF">2023-12-17T22:59:26Z</dcterms:modified>
  <cp:revision>2</cp:revision>
  <dc:subject/>
  <dc:title>Slide 1</dc:title>
</cp:coreProperties>
</file>